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E2A9-BE82-4D3D-AFD2-CA75B9ED36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newint.org/features/2012/09/18/illegal-drugs-facts-infographic/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other option is to use the website link with an option to zoom in and out: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ewint.org/features/2012/09/18/illegal-drugs-facts-infographic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D063-FDCA-4BF7-8718-63C6E839303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6E73-F907-4FB1-8960-712217D662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E089-74D5-4B3C-98C3-5F7C0288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9F21-8C2C-44DF-9B63-751BE528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2EAD-FD60-432A-B9E7-B9F5B0D4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41EE-D58A-4BFB-8609-A4CBA4F6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7B28-977F-44F9-B1F5-46A7762B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8577-47F1-45DE-BB89-ADBD3C25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F044-5679-4D12-B6CF-3B0F5596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0764-BEEE-4CA8-8386-58BF4F9A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EB38-5C0E-473C-A485-4D928432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776A-AD39-40F2-8338-87F347A2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29D4-61DD-4098-ACF8-E87FD587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F98-EA7C-4693-BAE7-FDF8BEA3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C7C1-F01D-4E50-8C78-CDD96A8C5C04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-6480" y="201600"/>
            <a:ext cx="9242640" cy="1150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ow much does a kilo of heroin cost on a UK street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ow much does the farmer get for a kilo of opium poppies (used to make the heroin)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Did the number of cannabis and cocaine users in the world rise or fall between 1998 and 2008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What percentage of US teenagers use cannabi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Do more people die per year from drugs, alcohol or tobacco? What is the percentage difference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What are the 5 most popular drugs in the world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(check your answers on the next slide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7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1" name="Content Placeholder 3" descr="drugs info.jpg"/>
          <p:cNvPicPr/>
          <p:nvPr/>
        </p:nvPicPr>
        <p:blipFill>
          <a:blip r:embed="rId1"/>
          <a:stretch/>
        </p:blipFill>
        <p:spPr>
          <a:xfrm>
            <a:off x="47520" y="168120"/>
            <a:ext cx="90964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475920"/>
            <a:ext cx="77612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Now read this to find out more about world drug use and argument for legalizing or decriminalizing drugs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ttp://eewiki.newint.org/index.php/Make_drugs_leg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284720" y="3807000"/>
            <a:ext cx="389736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19:08:39Z</dcterms:created>
  <dc:creator>Mix</dc:creator>
  <dc:description/>
  <dc:language>en-US</dc:language>
  <cp:lastModifiedBy>Linda Ruas</cp:lastModifiedBy>
  <dcterms:modified xsi:type="dcterms:W3CDTF">2014-05-26T20:48:19Z</dcterms:modified>
  <cp:revision>22</cp:revision>
  <dc:subject/>
  <dc:title>DRUGS</dc:title>
</cp:coreProperties>
</file>